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E58-0674-467A-8311-370D1115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8B0-59D6-4575-8D8A-1DE0DCBA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94B-FC72-4372-A2FC-43BA63AF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474F-B6B8-4EA7-ACE1-21C2866E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573E-E0D5-4587-9725-FE9B8FD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806-7D12-4749-8CC4-16EA8957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0D15-9193-4BDC-8BCB-48516C1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523-08E8-41B8-97E0-138232A8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CDC5-7E57-411F-9FC9-B38FFA3D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0D8-8FC0-4CBF-829C-0E5BF20D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897-BC2C-4844-BE10-9971FD47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8DD-AF86-4090-AE4C-BCDD9A35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93A0-4A61-4D33-A637-B3F45203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09680"/>
            <a:ext cx="3581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52480" y="838080"/>
            <a:ext cx="5685120" cy="5024520"/>
            <a:chOff x="1752480" y="838080"/>
            <a:chExt cx="5685120" cy="50245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03400" y="1316160"/>
              <a:ext cx="52578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 txBox="1"/>
            <p:nvPr/>
          </p:nvSpPr>
          <p:spPr>
            <a:xfrm>
              <a:off x="1752480" y="5303880"/>
              <a:ext cx="5685120" cy="55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D Building Viewin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2170080" y="838080"/>
              <a:ext cx="3846600" cy="141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676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Comic Sans MS"/>
                </a:rPr>
                <a:t>ESSI2 Projec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Results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1676520"/>
            <a:ext cx="7846920" cy="4190760"/>
            <a:chOff x="609480" y="1676520"/>
            <a:chExt cx="7846920" cy="4190760"/>
          </a:xfrm>
        </p:grpSpPr>
        <p:sp>
          <p:nvSpPr>
            <p:cNvPr id="103" name=""/>
            <p:cNvSpPr/>
            <p:nvPr/>
          </p:nvSpPr>
          <p:spPr>
            <a:xfrm>
              <a:off x="609480" y="5463360"/>
              <a:ext cx="334368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Gouraud, resolution 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8080" y="5463360"/>
              <a:ext cx="3343680" cy="40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Gouraud, resolution 7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gouraud" descr=""/>
            <p:cNvPicPr/>
            <p:nvPr/>
          </p:nvPicPr>
          <p:blipFill>
            <a:blip r:embed="rId1"/>
            <a:stretch/>
          </p:blipFill>
          <p:spPr>
            <a:xfrm>
              <a:off x="694440" y="1676520"/>
              <a:ext cx="3487320" cy="33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gouraud_75" descr=""/>
            <p:cNvPicPr/>
            <p:nvPr/>
          </p:nvPicPr>
          <p:blipFill>
            <a:blip r:embed="rId2"/>
            <a:stretch/>
          </p:blipFill>
          <p:spPr>
            <a:xfrm>
              <a:off x="5032440" y="1676520"/>
              <a:ext cx="3423960" cy="3368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alization -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752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Introducti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Rotation, Translation, Zoom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. Sky View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. Inside View of the Tow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Anim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. Texture Mapping &amp; F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alization - Sky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1981080"/>
            <a:ext cx="8532720" cy="3521160"/>
            <a:chOff x="304920" y="1981080"/>
            <a:chExt cx="8532720" cy="35211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04920" y="1981080"/>
              <a:ext cx="3681720" cy="311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4195080" y="1981080"/>
              <a:ext cx="4642560" cy="299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713840" y="5083200"/>
              <a:ext cx="38901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762120" y="1828800"/>
            <a:ext cx="7390800" cy="4038480"/>
            <a:chOff x="762120" y="1828800"/>
            <a:chExt cx="7390800" cy="4038480"/>
          </a:xfrm>
        </p:grpSpPr>
        <p:sp>
          <p:nvSpPr>
            <p:cNvPr id="115" name=""/>
            <p:cNvSpPr/>
            <p:nvPr/>
          </p:nvSpPr>
          <p:spPr>
            <a:xfrm>
              <a:off x="899280" y="5290920"/>
              <a:ext cx="2976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In the Stre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6" name=""/>
            <p:cNvGraphicFramePr/>
            <p:nvPr/>
          </p:nvGraphicFramePr>
          <p:xfrm>
            <a:off x="762120" y="1828800"/>
            <a:ext cx="3351600" cy="3232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1828800"/>
                      <a:ext cx="3351600" cy="323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" name="up2" descr=""/>
            <p:cNvPicPr/>
            <p:nvPr/>
          </p:nvPicPr>
          <p:blipFill>
            <a:blip r:embed="rId3"/>
            <a:stretch/>
          </p:blipFill>
          <p:spPr>
            <a:xfrm>
              <a:off x="4827960" y="1832760"/>
              <a:ext cx="3324960" cy="32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708800" y="5290920"/>
              <a:ext cx="29761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rom the Sk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. - Inside View of the Town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. - Inside View of the Town 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5800" y="1752480"/>
            <a:ext cx="7467480" cy="3886200"/>
            <a:chOff x="685800" y="1752480"/>
            <a:chExt cx="7467480" cy="3886200"/>
          </a:xfrm>
        </p:grpSpPr>
        <p:grpSp>
          <p:nvGrpSpPr>
            <p:cNvPr id="123" name=""/>
            <p:cNvGrpSpPr/>
            <p:nvPr/>
          </p:nvGrpSpPr>
          <p:grpSpPr>
            <a:xfrm>
              <a:off x="685800" y="1752480"/>
              <a:ext cx="7467480" cy="3134160"/>
              <a:chOff x="685800" y="1752480"/>
              <a:chExt cx="7467480" cy="3134160"/>
            </a:xfrm>
          </p:grpSpPr>
          <p:pic>
            <p:nvPicPr>
              <p:cNvPr id="124" name="Profil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1752480"/>
                <a:ext cx="3281400" cy="301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dessus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8840" y="1877760"/>
                <a:ext cx="2494440" cy="3008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"/>
            <p:cNvSpPr/>
            <p:nvPr/>
          </p:nvSpPr>
          <p:spPr>
            <a:xfrm>
              <a:off x="3223080" y="5011920"/>
              <a:ext cx="30204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. - Texture Ma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914400" y="1752480"/>
            <a:ext cx="7375320" cy="4079520"/>
            <a:chOff x="914400" y="1752480"/>
            <a:chExt cx="7375320" cy="4079520"/>
          </a:xfrm>
        </p:grpSpPr>
        <p:pic>
          <p:nvPicPr>
            <p:cNvPr id="129" name="Couvert" descr=""/>
            <p:cNvPicPr/>
            <p:nvPr/>
          </p:nvPicPr>
          <p:blipFill>
            <a:blip r:embed="rId1"/>
            <a:stretch/>
          </p:blipFill>
          <p:spPr>
            <a:xfrm>
              <a:off x="4961520" y="1752480"/>
              <a:ext cx="3328200" cy="16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Couche" descr=""/>
            <p:cNvPicPr/>
            <p:nvPr/>
          </p:nvPicPr>
          <p:blipFill>
            <a:blip r:embed="rId2"/>
            <a:stretch/>
          </p:blipFill>
          <p:spPr>
            <a:xfrm>
              <a:off x="914400" y="4205160"/>
              <a:ext cx="3328200" cy="16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Nuit" descr=""/>
            <p:cNvPicPr/>
            <p:nvPr/>
          </p:nvPicPr>
          <p:blipFill>
            <a:blip r:embed="rId3"/>
            <a:stretch/>
          </p:blipFill>
          <p:spPr>
            <a:xfrm>
              <a:off x="4961520" y="4205160"/>
              <a:ext cx="3328200" cy="16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Ciel" descr=""/>
            <p:cNvPicPr/>
            <p:nvPr/>
          </p:nvPicPr>
          <p:blipFill>
            <a:blip r:embed="rId4"/>
            <a:stretch/>
          </p:blipFill>
          <p:spPr>
            <a:xfrm>
              <a:off x="914400" y="1752480"/>
              <a:ext cx="3328200" cy="162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3D Visualization - F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5800" y="1676520"/>
            <a:ext cx="7619760" cy="4038120"/>
            <a:chOff x="685800" y="1676520"/>
            <a:chExt cx="7619760" cy="4038120"/>
          </a:xfrm>
        </p:grpSpPr>
        <p:pic>
          <p:nvPicPr>
            <p:cNvPr id="135" name="pasbrouiilard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354120" cy="34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brouillard" descr=""/>
            <p:cNvPicPr/>
            <p:nvPr/>
          </p:nvPicPr>
          <p:blipFill>
            <a:blip r:embed="rId2"/>
            <a:stretch/>
          </p:blipFill>
          <p:spPr>
            <a:xfrm>
              <a:off x="4962600" y="1687680"/>
              <a:ext cx="3342960" cy="340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193760" y="5219280"/>
              <a:ext cx="218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Without F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70640" y="5219280"/>
              <a:ext cx="2188080" cy="49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With F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752480" y="838080"/>
            <a:ext cx="5685120" cy="5024520"/>
            <a:chOff x="1752480" y="838080"/>
            <a:chExt cx="5685120" cy="502452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2003400" y="1316160"/>
              <a:ext cx="52578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1752480" y="5303880"/>
              <a:ext cx="5685120" cy="558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3D Building Viewing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2170080" y="838080"/>
              <a:ext cx="3846600" cy="1411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6769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Comic Sans MS"/>
                </a:rPr>
                <a:t>ESSI2 Projec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VisuSat 3D</a:t>
            </a:r>
            <a:br>
              <a:rPr sz="4000"/>
            </a:br>
            <a:r>
              <a:rPr b="1" i="1" lang="fr-FR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written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2133720"/>
            <a:ext cx="358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ain Bellenger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ophe Bitschen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vid Guigoni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yrille Kluz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133720"/>
            <a:ext cx="358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régory Cazanav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livier Dumazy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érôme Laport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dovic Te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5105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with Olivier Amadieu &amp; Michel Buf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752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. Introducti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. The « Marching Cubes »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. 3D Visualizati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. Interfac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. 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Differ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ases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65640" cy="429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0" y="5486400"/>
            <a:ext cx="162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Basic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981080" y="1981080"/>
            <a:ext cx="4647960" cy="3504960"/>
            <a:chOff x="1981080" y="1981080"/>
            <a:chExt cx="4647960" cy="3504960"/>
          </a:xfrm>
        </p:grpSpPr>
        <p:grpSp>
          <p:nvGrpSpPr>
            <p:cNvPr id="56" name=""/>
            <p:cNvGrpSpPr/>
            <p:nvPr/>
          </p:nvGrpSpPr>
          <p:grpSpPr>
            <a:xfrm>
              <a:off x="3165480" y="1981080"/>
              <a:ext cx="3463560" cy="3431880"/>
              <a:chOff x="3165480" y="1981080"/>
              <a:chExt cx="3463560" cy="3431880"/>
            </a:xfrm>
          </p:grpSpPr>
          <p:sp>
            <p:nvSpPr>
              <p:cNvPr id="57" name=""/>
              <p:cNvSpPr/>
              <p:nvPr/>
            </p:nvSpPr>
            <p:spPr>
              <a:xfrm>
                <a:off x="3165840" y="2934000"/>
                <a:ext cx="0" cy="247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3165840" y="2934000"/>
                <a:ext cx="2369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535360" y="2934000"/>
                <a:ext cx="0" cy="247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3165840" y="5411880"/>
                <a:ext cx="2369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5535000" y="1981080"/>
                <a:ext cx="109332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629040" y="1981080"/>
                <a:ext cx="0" cy="247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5535000" y="4458960"/>
                <a:ext cx="109332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4259160" y="1981080"/>
                <a:ext cx="2369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3165480" y="1981080"/>
                <a:ext cx="109332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59160" y="1981080"/>
                <a:ext cx="0" cy="247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3165480" y="4458960"/>
                <a:ext cx="1093320" cy="9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259160" y="4458960"/>
                <a:ext cx="2369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5535720" y="3938760"/>
              <a:ext cx="182160" cy="190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12680" y="5273280"/>
              <a:ext cx="182160" cy="190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30520" y="2404440"/>
              <a:ext cx="182160" cy="190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3530160" y="2400480"/>
              <a:ext cx="2005200" cy="3053520"/>
              <a:chOff x="3530160" y="2400480"/>
              <a:chExt cx="2005200" cy="3053520"/>
            </a:xfrm>
          </p:grpSpPr>
          <p:sp>
            <p:nvSpPr>
              <p:cNvPr id="73" name=""/>
              <p:cNvSpPr/>
              <p:nvPr/>
            </p:nvSpPr>
            <p:spPr>
              <a:xfrm flipV="1">
                <a:off x="3894840" y="4119840"/>
                <a:ext cx="1640160" cy="1334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4259520" y="2975760"/>
                <a:ext cx="1275840" cy="114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flipV="1">
                <a:off x="3530160" y="2400480"/>
                <a:ext cx="72900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712680" y="2594880"/>
                <a:ext cx="182160" cy="2859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1981080" y="2023200"/>
              <a:ext cx="3736800" cy="3462840"/>
            </a:xfrm>
            <a:custGeom>
              <a:avLst/>
              <a:gdLst/>
              <a:ahLst/>
              <a:rect l="l" t="t" r="r" b="b"/>
              <a:pathLst>
                <a:path w="2952" h="2616">
                  <a:moveTo>
                    <a:pt x="0" y="0"/>
                  </a:moveTo>
                  <a:cubicBezTo>
                    <a:pt x="792" y="216"/>
                    <a:pt x="1584" y="432"/>
                    <a:pt x="2016" y="576"/>
                  </a:cubicBezTo>
                  <a:cubicBezTo>
                    <a:pt x="2448" y="720"/>
                    <a:pt x="2448" y="696"/>
                    <a:pt x="2592" y="864"/>
                  </a:cubicBezTo>
                  <a:cubicBezTo>
                    <a:pt x="2736" y="1032"/>
                    <a:pt x="2952" y="1320"/>
                    <a:pt x="2880" y="1584"/>
                  </a:cubicBezTo>
                  <a:cubicBezTo>
                    <a:pt x="2808" y="1848"/>
                    <a:pt x="2568" y="2280"/>
                    <a:pt x="2160" y="2448"/>
                  </a:cubicBezTo>
                  <a:cubicBezTo>
                    <a:pt x="1752" y="2616"/>
                    <a:pt x="768" y="2568"/>
                    <a:pt x="432" y="2592"/>
                  </a:cubicBezTo>
                  <a:cubicBezTo>
                    <a:pt x="96" y="2616"/>
                    <a:pt x="120" y="2604"/>
                    <a:pt x="144" y="259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Exa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Different c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cases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265640" cy="4299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0" y="5486400"/>
            <a:ext cx="162252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Basics C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828800" y="1828800"/>
          <a:ext cx="55767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5767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33720" y="3505320"/>
                <a:ext cx="514800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∗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1371600" y="4648320"/>
            <a:ext cx="6934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0=distance entre le sommet 0 et l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3=distance entre le sommet 1 et la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Linear Interpo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Resul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85800" y="1600200"/>
            <a:ext cx="7770960" cy="4053960"/>
            <a:chOff x="685800" y="1600200"/>
            <a:chExt cx="7770960" cy="4053960"/>
          </a:xfrm>
        </p:grpSpPr>
        <p:graphicFrame>
          <p:nvGraphicFramePr>
            <p:cNvPr id="89" name=""/>
            <p:cNvGraphicFramePr/>
            <p:nvPr/>
          </p:nvGraphicFramePr>
          <p:xfrm>
            <a:off x="685800" y="1600200"/>
            <a:ext cx="3864600" cy="3368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00200"/>
                      <a:ext cx="3864600" cy="336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1" name="mne1_4" descr=""/>
            <p:cNvPicPr/>
            <p:nvPr/>
          </p:nvPicPr>
          <p:blipFill>
            <a:blip r:embed="rId3"/>
            <a:stretch/>
          </p:blipFill>
          <p:spPr>
            <a:xfrm>
              <a:off x="4924440" y="1600200"/>
              <a:ext cx="3532320" cy="337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308960" y="5296680"/>
              <a:ext cx="29919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Rebuilt Pi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24440" y="5296680"/>
              <a:ext cx="349056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igital Model of Elev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Marching Cubes - Result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00200"/>
            <a:ext cx="7998840" cy="4296960"/>
            <a:chOff x="533520" y="1600200"/>
            <a:chExt cx="7998840" cy="4296960"/>
          </a:xfrm>
        </p:grpSpPr>
        <p:grpSp>
          <p:nvGrpSpPr>
            <p:cNvPr id="96" name=""/>
            <p:cNvGrpSpPr/>
            <p:nvPr/>
          </p:nvGrpSpPr>
          <p:grpSpPr>
            <a:xfrm>
              <a:off x="533520" y="1618560"/>
              <a:ext cx="3441600" cy="4278600"/>
              <a:chOff x="533520" y="1618560"/>
              <a:chExt cx="3441600" cy="4278600"/>
            </a:xfrm>
          </p:grpSpPr>
          <p:pic>
            <p:nvPicPr>
              <p:cNvPr id="97" name="gouraud_10" descr=""/>
              <p:cNvPicPr/>
              <p:nvPr/>
            </p:nvPicPr>
            <p:blipFill>
              <a:blip r:embed="rId1"/>
              <a:stretch/>
            </p:blipFill>
            <p:spPr>
              <a:xfrm>
                <a:off x="533520" y="1618560"/>
                <a:ext cx="3441600" cy="340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33520" y="5483160"/>
                <a:ext cx="341784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Arial"/>
                  </a:rPr>
                  <a:t>Gouraud, resolution 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9" name="gouraud_30" descr=""/>
            <p:cNvPicPr/>
            <p:nvPr/>
          </p:nvPicPr>
          <p:blipFill>
            <a:blip r:embed="rId2"/>
            <a:stretch/>
          </p:blipFill>
          <p:spPr>
            <a:xfrm>
              <a:off x="4967640" y="1600200"/>
              <a:ext cx="3564720" cy="34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091120" y="5483160"/>
              <a:ext cx="3417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Gouraud, resolution 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3D Building Viewing</a:t>
            </a: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7T15:35:15Z</dcterms:created>
  <dc:creator>laporte</dc:creator>
  <dc:description/>
  <dc:language>en-US</dc:language>
  <cp:lastModifiedBy>laporte</cp:lastModifiedBy>
  <dcterms:modified xsi:type="dcterms:W3CDTF">1999-06-18T11:32:14Z</dcterms:modified>
  <cp:revision>8</cp:revision>
  <dc:subject/>
  <dc:title>Aucun titre de diapositive</dc:title>
</cp:coreProperties>
</file>